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414E3D-8F90-4F27-ABC8-8752266A8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F9B25B-3738-473B-96C0-CF46D26DB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D6FF41-B212-423D-8E60-F5DD3ACAE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0EA547-5D73-4AE6-BB3B-93C641807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9AD24-13AB-4AEC-BC3A-CDA79F05C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72D7B-EEDE-47D9-B045-8D90ACF88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EE82B-4DA7-4B66-BED0-5524ECC52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17D1F-2BD6-44A3-8969-B2FD747A0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ACFDB-A513-4F5E-A0CA-15E496E51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0445E-62B1-4B88-B97C-2D812229C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C570F-C360-4B8F-9ECD-DD86BC0CF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19FC11-662F-4A6B-852B-5994C2848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648D7-B3B4-4160-A975-A727866CB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94C7C-983C-4FFF-AA0B-0461E32F5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6E47C-FAA3-4D72-AD8C-C5750D694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1CC1B-E3C0-48FD-B327-1F0391819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FD271-3142-4A9B-8B34-C0E2B3AE6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4B1E9D-A34F-45C5-9FB4-74A6068B2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4AFD52-D96C-495A-BC1D-CEC5E4F89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53B87C-F8D2-46CC-80A6-A9EA5F066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144692-72ED-4D03-8DD6-F70324C6D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56EE56-186B-40B9-A3E7-FEBD7B27D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FC0AF0-23A7-4882-AF13-31A36BD3B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E537BF-A235-46D2-832B-DCEFAEE29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C5BBB-31B2-48A2-B07C-D1240C2B9A94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152F5-2156-43D0-B4B8-4C49F5C57AEF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000" spc="-1" strike="noStrike">
                <a:solidFill>
                  <a:srgbClr val="ffffff"/>
                </a:solidFill>
                <a:latin typeface="굴림"/>
              </a:rPr>
              <a:t>의용평류전류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83664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평류요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완화 ← 허혈 부위에 농축된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H</a:t>
            </a:r>
            <a:r>
              <a:rPr b="0" lang="ko-KR" sz="3200" spc="-1" strike="noStrike" baseline="30000">
                <a:solidFill>
                  <a:srgbClr val="000000"/>
                </a:solidFill>
                <a:latin typeface="굴림"/>
                <a:ea typeface=""/>
              </a:rPr>
              <a:t>+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와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K</a:t>
            </a:r>
            <a:r>
              <a:rPr b="0" lang="ko-KR" sz="3200" spc="-1" strike="noStrike" baseline="30000">
                <a:solidFill>
                  <a:srgbClr val="000000"/>
                </a:solidFill>
                <a:latin typeface="굴림"/>
              </a:rPr>
              <a:t>+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제거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낮은 전류강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0.15-0.25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㎠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로 장시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5-30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적용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매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204920" y="0"/>
            <a:ext cx="6337440" cy="645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1019160"/>
            <a:ext cx="914400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900000" y="135000"/>
            <a:ext cx="7344000" cy="658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900000" y="398520"/>
            <a:ext cx="7775640" cy="64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755640" y="160200"/>
            <a:ext cx="7777080" cy="666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치료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국소 순환 증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피부의 혈관운동신경자극으로 평류 충혈이 생기고 이것은 혈관확장을 의미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영양 증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염증산물흡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세포의 신진대사 촉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반자극 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 완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적용 방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접촉방식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contact method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①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편안한 자세로 치료부위 노출 및 지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②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 원리 및 경험되는 감각 설명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따끔따끔 쑤시는 감각 → 따뜻한 감각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③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부위의 검사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피부 표면의 문제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금속의 유무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④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환자의 감각 구별 능력 검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68360" y="738360"/>
            <a:ext cx="81360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⑤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부위 기름기 제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따뜻한 적은 패드 접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⑥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도중 움직이거나 치료기기를 만지지 않도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이상 감각 시 이야기를 하도록 주의를 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⑦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시 환자 및 전류계 관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⑧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종료 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하 피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핑크 빛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하 피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적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피부와 패드를 씻어 화학물질 제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⑨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배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횡 방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로 관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종 방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육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⑩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적절한 전류 강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0.5-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ko-KR" sz="28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⑪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시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15-2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179280" y="404640"/>
            <a:ext cx="878544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중 치료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subaquatic method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부위가 불 균일한 윤곽이거나 광범위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산이 필요할 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편안한 자세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부위 평가 및 청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동통감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따뜻한 욕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 baths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에 담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92-100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의사항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물에서 다리를 들어내지 않도록 경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 쇼크 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욕조에서 금속을 만지지 않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도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면에 있는 피부 부위에 절연크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바셀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⑤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평류 치료 시 장시간의 낮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평류 치료 시 단기간 높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전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99640" y="1988640"/>
            <a:ext cx="74278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직류전류의 기본개념을 이해하고 의용 평류전류의 생리적 효과를 토대로 적응증과 금기증을 파악한다</a:t>
            </a: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356000" y="692280"/>
            <a:ext cx="809640" cy="104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치료의 적응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7643880" cy="47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급성 염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외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좌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만성 염증성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절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건초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육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절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관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레이노드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 과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정신과적 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588000" y="692280"/>
            <a:ext cx="1047960" cy="9144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898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898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898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898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898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898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898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치료의 금기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0755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열성 질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결 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악성종양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출혈성 질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피부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습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건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 소실 부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심장 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불 유합된 골절부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새로 생기는 상처 조직 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심박조정기 착용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6516720" y="549360"/>
            <a:ext cx="79056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정  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9152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전류를 이용한 전기치료의 한 방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지속형 직류 혹은 평류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smooth current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갈바니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 current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방향과 크기가 변하지 않고 일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속형직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interrupted galvanic current)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정하지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크기가 변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역전형직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reversed direct current)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방향이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초 이상의 간격으로 변함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411280" y="549360"/>
            <a:ext cx="86688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의 특성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700280"/>
            <a:ext cx="84358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직류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초 이상 한 방향으로 일정하게 흐르는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파수 없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효과는 화학적 효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류강도는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 이하 사용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교류정류기 – 진공관식 정류기와 반도체 다이오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성검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기포검사 –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+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 산소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(-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 수소발생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리트머스 –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+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산성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(-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알카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기성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995640" y="620640"/>
            <a:ext cx="866880" cy="10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1.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물리화학적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기분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NaCl + H</a:t>
            </a:r>
            <a:r>
              <a:rPr b="0" lang="ko-KR" sz="2800" spc="-1" strike="noStrike" baseline="-25000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0 = NaCl + HC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Cl-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산과 산소 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산성반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백질 응고 – 착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Na+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산화나트륨과 수소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알카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의 액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화학적 화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의 액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 확장의 영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미열효과를 목적으로 사용하지는 않는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은 처음은 따끔거리는 감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몇 분 후 경미한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온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생리적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893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국소 충혈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Galvanic hyperemia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혈관 수축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혈관 이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 0.8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㎠ 강도로 자극시 반자극 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완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진정 및 자극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운동신경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에서 흥분성 증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감각신경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에서 역치 저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통전시 역치상승 – 통증 완화 이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3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전도 속도 감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 시 고려 사항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1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강도범위 –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1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당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½-1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로 하되 피부인내강도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적당한 치료강도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0.5-1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시간 – 처음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0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경과에 따라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30-40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주의점 – 강도조절은 서서히 증가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도자습도는 충분히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도자와 피부접촉은 견고히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굴림"/>
              </a:rPr>
              <a:t>치  료  효  과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0" y="1197000"/>
          <a:ext cx="9143640" cy="5795640"/>
        </p:xfrm>
        <a:graphic>
          <a:graphicData uri="http://schemas.openxmlformats.org/drawingml/2006/table">
            <a:tbl>
              <a:tblPr/>
              <a:tblGrid>
                <a:gridCol w="2770200"/>
                <a:gridCol w="3325680"/>
                <a:gridCol w="3047760"/>
              </a:tblGrid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양  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음  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물리화학적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산성반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알카리 반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미열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미열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400">
                <a:tc rowSpan="8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생리화학적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조직의 경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조직의 연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흥분성 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흥분성 증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역치 증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역치 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진정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극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통증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통증 유발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혈관수축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혈관 확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국소 빈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국소충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지혈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출혈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3708360" y="0"/>
            <a:ext cx="961920" cy="10476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임상적 치료 양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형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평류 요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cathodal galvanism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자극 효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counter-irritant effect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경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관확장→ 순환증가→ 통증의 원인인자 제거 → 통증 감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경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직경이 큰 감각신경에 작용→ 척수의 연접 전 억제 기전 활성화 → 통증 감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만성통증 완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 허혈로 인한 통증 완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기간 높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최대강도 적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0.5-0.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시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0-2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빈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7T12:51:14Z</dcterms:created>
  <dc:creator>win xp</dc:creator>
  <dc:description/>
  <dc:language>en-US</dc:language>
  <cp:lastModifiedBy>ANGEL</cp:lastModifiedBy>
  <dcterms:modified xsi:type="dcterms:W3CDTF">2005-04-27T14:39:21Z</dcterms:modified>
  <cp:revision>9</cp:revision>
  <dc:subject/>
  <dc:title>의용평류전류</dc:title>
</cp:coreProperties>
</file>